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5CD-72F2-4D92-9E82-EA035FE4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5BF-E622-46BB-9DF1-F7548A26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757-09A9-4740-A16B-4348F215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490-FBAC-477D-B05D-E5003716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1B6D-453F-434A-9931-CECF2241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F43-9E03-41B8-8AA9-CE1E7589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B73B-14E1-45CE-802F-7950934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4814-8D07-4E33-83C6-1B4C14D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9B5E-A96E-4488-960D-75987128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A2D-28A2-4CAA-8637-CCA3BDF2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7A6B-83F9-4205-BBA6-A4ADEEA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ED-FAC1-4D49-B360-C2119395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A62B-A1BF-47E7-BEBF-0BA6FA5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1E02-A390-4115-8414-E5BE4D4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4EE5-AE2F-467F-906E-F07C7D7E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1D9-B97B-4145-83A0-E33D6264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1D57-15D3-4A2D-88F6-B1108D3D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02D-59F3-4946-A07E-299F9AB2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FB7-57B5-493A-B0A3-ADDF1E1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526-20D8-4F4F-B050-C1B79385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9E2-5570-4FE9-8158-A2EAFD2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C15-09BA-4727-841F-B58EF554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DFF-B98E-4764-8E06-8210DAA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E28-354B-43D9-9614-0288B321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DE8-A799-4BAD-B01C-DF6FE984D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C3FD-5C72-4DD3-B968-CF9B34D509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freedesktop.org/software/IncomingClipart/apple.png&amp;imgrefurl=http://freedesktop.org/software/IncomingClipart/&amp;h=842&amp;w=595&amp;sz=18&amp;tbnid=nVH-VmYQ7PUJ:&amp;tbnh=143&amp;tbnw=101&amp;hl=en&amp;start=26&amp;prev=/images%3Fq%3Dapple%26start%3D20%26svnum%3D10%26hl%3Den%26lr%3D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niversal Gravita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ure and Nature's law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y hid in night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od said, Let Newton be!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all was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lexander P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epler’s Three Law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w: Path of planets are ellip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t sweeps out equal area in a given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k for objects orbiting a common c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keplaw"/>
          <p:cNvPicPr/>
          <p:nvPr/>
        </p:nvPicPr>
        <p:blipFill>
          <a:blip r:embed="rId1"/>
          <a:stretch/>
        </p:blipFill>
        <p:spPr>
          <a:xfrm>
            <a:off x="4952880" y="1066680"/>
            <a:ext cx="365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r Isaac Newton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642-1727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62120" y="2362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I have been able to see further, it was only because I stood on the shoulders of giants.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ter to Robert Hoo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newton"/>
          <p:cNvPicPr/>
          <p:nvPr/>
        </p:nvPicPr>
        <p:blipFill>
          <a:blip r:embed="rId1"/>
          <a:stretch/>
        </p:blipFill>
        <p:spPr>
          <a:xfrm>
            <a:off x="4800600" y="1905120"/>
            <a:ext cx="3732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r Isaac Newton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642-1727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4" descr="newton"/>
          <p:cNvPicPr/>
          <p:nvPr/>
        </p:nvPicPr>
        <p:blipFill>
          <a:blip r:embed="rId1"/>
          <a:stretch/>
        </p:blipFill>
        <p:spPr>
          <a:xfrm>
            <a:off x="5638680" y="2438280"/>
            <a:ext cx="2667240" cy="28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app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21337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85800" y="1981080"/>
            <a:ext cx="4419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act orbits are constant must be due to a force keeping planets in orb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force that makes an apple fall to the ground, could be acting on planet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93642E-007 C 0.01025 0.05341 0.02049 0.10682 0.02848 0.20093 C 0.03647 0.29503 0.04063 0.56994 0.04758 0.56439 C 0.05452 0.55885 0.06233 0.16786 0.0698 0.16717 C 0.07726 0.16648 0.08438 0.52624 0.09202 0.56023 C 0.09966 0.59399 0.10574 0.37018 0.11581 0.36994 C 0.12588 0.36971 0.13924 0.54405 0.15226 0.55815 C 0.16528 0.57226 0.18091 0.4548 0.19358 0.45457 C 0.20626 0.45434 0.21772 0.5459 0.22848 0.55584 C 0.23924 0.56624 0.24758 0.51676 0.25869 0.51584 C 0.2698 0.51468 0.28907 0.54405 0.29515 0.5496 E">
                                      <p:cBhvr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max.org/astrocourse/history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ps.prenhall.com/esm_chaisson_astronomytoday_5/0,9185,1383966-content,0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nos.noaa.gov/.../ geodesy/geo02_histr.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groups.dcs.st-and.ac.uk/~history/Mathematicians/Copernicu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cient Ti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ldest recorded astronomical observations were from around 4,000 BC (Egypt, Central Americ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pyramids"/>
          <p:cNvPicPr/>
          <p:nvPr/>
        </p:nvPicPr>
        <p:blipFill>
          <a:blip r:embed="rId1"/>
          <a:stretch/>
        </p:blipFill>
        <p:spPr>
          <a:xfrm>
            <a:off x="4952880" y="2743200"/>
            <a:ext cx="2828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istarchus of Samos 310-230 B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tarchus proposed a heliocentric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d ratio of distances between Earth, Moon, and S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aristarchus_1"/>
          <p:cNvPicPr/>
          <p:nvPr/>
        </p:nvPicPr>
        <p:blipFill>
          <a:blip r:embed="rId1"/>
          <a:stretch/>
        </p:blipFill>
        <p:spPr>
          <a:xfrm>
            <a:off x="4038480" y="2190600"/>
            <a:ext cx="48387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Eratosthenes</a:t>
            </a:r>
            <a:br>
              <a:rPr sz="4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76 BCE – 194 B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d Earth's circumference to within 5 percent of the accepted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Eratosthenes method of calculating the Earths' circumference"/>
          <p:cNvPicPr/>
          <p:nvPr/>
        </p:nvPicPr>
        <p:blipFill>
          <a:blip r:embed="rId1"/>
          <a:stretch/>
        </p:blipFill>
        <p:spPr>
          <a:xfrm>
            <a:off x="4648320" y="1617840"/>
            <a:ext cx="4216320" cy="496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eratosthenes"/>
          <p:cNvPicPr/>
          <p:nvPr/>
        </p:nvPicPr>
        <p:blipFill>
          <a:blip r:embed="rId2"/>
          <a:stretch/>
        </p:blipFill>
        <p:spPr>
          <a:xfrm>
            <a:off x="1981080" y="4191120"/>
            <a:ext cx="2229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udius Ptolemy d. 180 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-centric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accurately predict astronomical events with his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ed retrograde mo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almagest_2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332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tolemy"/>
          <p:cNvPicPr/>
          <p:nvPr/>
        </p:nvPicPr>
        <p:blipFill>
          <a:blip r:embed="rId2"/>
          <a:stretch/>
        </p:blipFill>
        <p:spPr>
          <a:xfrm>
            <a:off x="2438280" y="3962520"/>
            <a:ext cx="2210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udius Ptole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olemy’s theories last for 1,400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ptolemy"/>
          <p:cNvPicPr/>
          <p:nvPr/>
        </p:nvPicPr>
        <p:blipFill>
          <a:blip r:embed="rId1"/>
          <a:stretch/>
        </p:blipFill>
        <p:spPr>
          <a:xfrm>
            <a:off x="5257800" y="1752480"/>
            <a:ext cx="3008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Nicolaus Copernicu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473 to 1543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re is no one center in the universe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Earth's center is not the center of the universe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center of the universe is near the sun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distance from the Earth to the sun is imperceptible compared with the distance to the star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rotation of the Earth accounts for the apparent daily rotation of the star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apparent annual cycle of movements of the sun is caused by the Earth revolving round it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apparent retrograde motion of the planets is caused by the motion of the Earth from which one observe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8" descr="Copernicus_8"/>
          <p:cNvPicPr/>
          <p:nvPr/>
        </p:nvPicPr>
        <p:blipFill>
          <a:blip r:embed="rId1"/>
          <a:stretch/>
        </p:blipFill>
        <p:spPr>
          <a:xfrm>
            <a:off x="6019920" y="20574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alileo Galilei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564-1641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telescope he made, Galileo observ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ns of Jupi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s of Ven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indings supported a Copernica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pent the end of his life under “house arrest” for his belie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Galileo"/>
          <p:cNvPicPr/>
          <p:nvPr/>
        </p:nvPicPr>
        <p:blipFill>
          <a:blip r:embed="rId1"/>
          <a:stretch/>
        </p:blipFill>
        <p:spPr>
          <a:xfrm>
            <a:off x="5105520" y="1676520"/>
            <a:ext cx="342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ohannes Keple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571-1630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ly religious, Kepler thought God made the Universe according to a mathematical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to relate structure to nested geometric soli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Kepler_polyhedra"/>
          <p:cNvPicPr/>
          <p:nvPr/>
        </p:nvPicPr>
        <p:blipFill>
          <a:blip r:embed="rId1"/>
          <a:stretch/>
        </p:blipFill>
        <p:spPr>
          <a:xfrm>
            <a:off x="4114800" y="1523880"/>
            <a:ext cx="3298680" cy="297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Kepler_7"/>
          <p:cNvPicPr/>
          <p:nvPr/>
        </p:nvPicPr>
        <p:blipFill>
          <a:blip r:embed="rId2"/>
          <a:stretch/>
        </p:blipFill>
        <p:spPr>
          <a:xfrm>
            <a:off x="6610320" y="3581280"/>
            <a:ext cx="2305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33:51Z</dcterms:created>
  <dc:creator>Tobin Hahn</dc:creator>
  <dc:description/>
  <dc:language>en-US</dc:language>
  <cp:lastModifiedBy>jluckey</cp:lastModifiedBy>
  <dcterms:modified xsi:type="dcterms:W3CDTF">2011-02-03T14:32:49Z</dcterms:modified>
  <cp:revision>21</cp:revision>
  <dc:subject/>
  <dc:title>Universal Gravitation</dc:title>
</cp:coreProperties>
</file>